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39A-405D-482D-9E4C-A4A264D1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724-B151-4D05-8289-6C1B637C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330-7BD5-4DA0-A72F-B510B00E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9B7-8102-4434-85FE-69EC7E76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2CA-3A57-4E64-99AC-B131EEA6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340-3EB8-4D78-9159-5B37249D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812-AA85-4DBC-B442-DF26288B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C6E-C166-4D09-82C1-C6800CEA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218-51FE-4EDB-A351-C8307D24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D4F-DE7B-44B7-A3A5-FCB01DDB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C1C-7516-4B25-8FD4-4E9625F0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FF7-844B-46F1-B144-E2595161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748D-7C16-4BDA-AC3B-D52368FCD146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17080" cy="5905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692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LITERATURA MEDIE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4797360"/>
            <a:ext cx="56844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42920" y="404640"/>
            <a:ext cx="678204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Literatura Españo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611280" y="1989000"/>
            <a:ext cx="2361960" cy="838440"/>
          </a:xfrm>
          <a:prstGeom prst="flowChartOnlineStorag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da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 X-X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1989000"/>
            <a:ext cx="2514600" cy="838440"/>
          </a:xfrm>
          <a:prstGeom prst="flowChartOnlineStorag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na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 X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2060640"/>
            <a:ext cx="2362320" cy="838080"/>
          </a:xfrm>
          <a:prstGeom prst="flowChartOnlineStorag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rro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 X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200400"/>
            <a:ext cx="2667240" cy="838080"/>
          </a:xfrm>
          <a:prstGeom prst="flowChartOnlineStorag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oclasic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 X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3200400"/>
            <a:ext cx="2666880" cy="838080"/>
          </a:xfrm>
          <a:prstGeom prst="flowChartOnlineStorag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mantic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 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3200400"/>
            <a:ext cx="2438280" cy="838080"/>
          </a:xfrm>
          <a:prstGeom prst="flowChartOnlineStorag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 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495680"/>
            <a:ext cx="2667240" cy="838440"/>
          </a:xfrm>
          <a:prstGeom prst="flowChartOnlineStorag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r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 XIX-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4495680"/>
            <a:ext cx="2667240" cy="838440"/>
          </a:xfrm>
          <a:prstGeom prst="flowChartOnlineStorag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. del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 XIX-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0360" y="4437000"/>
            <a:ext cx="2667240" cy="838440"/>
          </a:xfrm>
          <a:prstGeom prst="flowChartOnlineStorag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tera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l S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4360" y="3645000"/>
            <a:ext cx="167652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844640"/>
            <a:ext cx="1143000" cy="38088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333360"/>
            <a:ext cx="5435640" cy="825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LITERATURA EN EL EDA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. X-X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1640" y="1844640"/>
            <a:ext cx="97308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Soc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468360" y="292428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eu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14400" y="2200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288612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5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teocént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288612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5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pluri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3419640"/>
            <a:ext cx="106704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usulma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risti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udí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3191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22003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220032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19104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523880" y="319104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9880" y="4692600"/>
            <a:ext cx="1838880" cy="52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uerra y Reli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o formas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86000" y="44100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6200" y="2276640"/>
            <a:ext cx="30708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7440" y="2276640"/>
            <a:ext cx="30708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3080" y="2276640"/>
            <a:ext cx="30708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6240" y="31669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v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5960" y="3330720"/>
            <a:ext cx="1233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os, como e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la cre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5002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Hero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7242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Ori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4029120"/>
            <a:ext cx="11430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idáctico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ora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1819440"/>
            <a:ext cx="1143000" cy="38088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92080" y="1870200"/>
            <a:ext cx="109224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19717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24480" y="1679400"/>
            <a:ext cx="137232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refleja en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81480" y="220032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22003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98080" y="411480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oni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360" y="3733920"/>
            <a:ext cx="149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nsmisión 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80980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5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Te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3114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64360" y="2852640"/>
            <a:ext cx="1600200" cy="295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5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asgos com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37242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715000" y="425772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715000" y="425736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000" y="449568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so del ve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31880" y="228600"/>
            <a:ext cx="4086720" cy="1068840"/>
          </a:xfrm>
          <a:prstGeom prst="rect">
            <a:avLst/>
          </a:prstGeom>
          <a:solidFill>
            <a:srgbClr val="c89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FEUDALISM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Vertebra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403280" y="1484280"/>
            <a:ext cx="6058080" cy="4609800"/>
            <a:chOff x="1403280" y="1484280"/>
            <a:chExt cx="6058080" cy="4609800"/>
          </a:xfrm>
        </p:grpSpPr>
        <p:sp>
          <p:nvSpPr>
            <p:cNvPr id="97" name="Pyr1"/>
            <p:cNvSpPr/>
            <p:nvPr/>
          </p:nvSpPr>
          <p:spPr>
            <a:xfrm>
              <a:off x="3760560" y="1484280"/>
              <a:ext cx="1357920" cy="102168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Pyr2"/>
            <p:cNvSpPr/>
            <p:nvPr/>
          </p:nvSpPr>
          <p:spPr>
            <a:xfrm>
              <a:off x="2974320" y="2505960"/>
              <a:ext cx="2923200" cy="11988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Pyr3"/>
            <p:cNvSpPr/>
            <p:nvPr/>
          </p:nvSpPr>
          <p:spPr>
            <a:xfrm>
              <a:off x="2196720" y="3704760"/>
              <a:ext cx="4478040" cy="11970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yr4"/>
            <p:cNvSpPr/>
            <p:nvPr/>
          </p:nvSpPr>
          <p:spPr>
            <a:xfrm>
              <a:off x="1403280" y="4895640"/>
              <a:ext cx="6058080" cy="11984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056840" y="197496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1b36"/>
                </a:solidFill>
                <a:latin typeface="Verdana"/>
              </a:rPr>
              <a:t>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3695760"/>
            <a:ext cx="800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35360" y="3238560"/>
            <a:ext cx="2012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vileg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52480" y="3619440"/>
            <a:ext cx="2511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privileg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90720" y="3085920"/>
            <a:ext cx="0" cy="533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39080" y="377208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7320" y="25527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1b36"/>
                </a:solidFill>
                <a:latin typeface="Verdana"/>
              </a:rPr>
              <a:t>Nobl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07440" y="31622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1b36"/>
                </a:solidFill>
                <a:latin typeface="Verdana"/>
              </a:rPr>
              <a:t>Cl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52456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1b36"/>
                </a:solidFill>
                <a:latin typeface="Verdana"/>
              </a:rPr>
              <a:t>Campes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06736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1b36"/>
                </a:solidFill>
                <a:latin typeface="Verdana"/>
              </a:rPr>
              <a:t>Artes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7400" y="384804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1b36"/>
                </a:solidFill>
                <a:latin typeface="Verdana"/>
              </a:rPr>
              <a:t>Baja Nobl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42120" y="430524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1b36"/>
                </a:solidFill>
                <a:latin typeface="Verdana"/>
              </a:rPr>
              <a:t>Bajo Cl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95280" y="3124080"/>
            <a:ext cx="1828800" cy="3812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iglo 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124080"/>
            <a:ext cx="175284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iglo 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3124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iglo 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3124080"/>
            <a:ext cx="167652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iglo XI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358000">
            <a:off x="798120" y="3027240"/>
            <a:ext cx="380880" cy="609480"/>
          </a:xfrm>
          <a:prstGeom prst="flowChartDocumen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676520"/>
            <a:ext cx="10670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2781360"/>
            <a:ext cx="106668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6080" y="1752480"/>
            <a:ext cx="11318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Almanzor saquea Santiago de Compostel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Hegemonía musulmana.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65360" y="457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129528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0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5335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ivisión del califato en reinos de taif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46440" y="68580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129528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0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71424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l Cid conquista Valenci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22960" y="3049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129528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2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28584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Fernando III conquista      Sevilla. Culmina el dominio sobre Andalucí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27720" y="457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6000" y="126828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3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2920" y="4572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 instaura en Castilla la dinastía Trastámar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55720" y="1600200"/>
            <a:ext cx="10670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263700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0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16002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Conquista de Toledo. Avance de la Reconquista hacia el su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60840" y="16002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63700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2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160020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Batalla de Navas de Tolosa.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Los cristianos penetran en Andalucí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61040" y="16002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25909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2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58112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Alfonso X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l Sabio es nombrado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rey de León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y de Castill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1523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362320" y="29718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096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1956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9720" y="5543640"/>
            <a:ext cx="106704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5229360"/>
            <a:ext cx="106668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iglo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551664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Glosas emilianenses y silenses. Primeros ejemplos de romance escri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17640" y="41148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378936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acia 10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41148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Composición de las jarchas más antiguas conservad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55720" y="5543640"/>
            <a:ext cx="1067040" cy="78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5229360"/>
            <a:ext cx="10666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554364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Fecha probable de composición del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Poema de mio Cid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98720" y="4114800"/>
            <a:ext cx="10670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3809880"/>
            <a:ext cx="10670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acia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33920" y="41148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Gonzalo </a:t>
            </a:r>
            <a:br>
              <a:rPr sz="1100"/>
            </a:b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de Berceo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compone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Milagros de Nuestra Señor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46640" y="5543640"/>
            <a:ext cx="1066680" cy="78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523872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acia 1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5651640"/>
            <a:ext cx="1131840" cy="596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Dante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escribe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l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Divina Comedi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32440" y="41148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380988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acia 13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411480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Don Juan Manuel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compone el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ibro Patronio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Conde Lucano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6840" y="554364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523872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acia 1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5543640"/>
            <a:ext cx="1131840" cy="763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Juan Ruiz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escribe el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ibro de buen amo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08960" y="41148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0120" y="380988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acia 13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41148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López de Ayal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escribe el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Rimado de palaci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055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7672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28600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91440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46748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6572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102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1629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62940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24480" y="380880"/>
            <a:ext cx="565200" cy="857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068720" y="1828800"/>
            <a:ext cx="609480" cy="762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676680" y="5543640"/>
            <a:ext cx="514440" cy="780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4800600" y="5562720"/>
            <a:ext cx="571680" cy="723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7543800" y="6095880"/>
            <a:ext cx="76212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001000" y="16002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2133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6093000"/>
            <a:ext cx="2895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581280"/>
            <a:ext cx="16002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2133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75720" y="228600"/>
            <a:ext cx="4824360" cy="459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ESARROLLO DE LOS GÉ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39640" y="1125360"/>
            <a:ext cx="1828800" cy="533520"/>
            <a:chOff x="539640" y="1125360"/>
            <a:chExt cx="1828800" cy="533520"/>
          </a:xfrm>
        </p:grpSpPr>
        <p:sp>
          <p:nvSpPr>
            <p:cNvPr id="204" name=""/>
            <p:cNvSpPr/>
            <p:nvPr/>
          </p:nvSpPr>
          <p:spPr>
            <a:xfrm>
              <a:off x="539640" y="1125360"/>
              <a:ext cx="1828800" cy="533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2560" y="1233360"/>
              <a:ext cx="1517400" cy="2764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La lírica primiti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56000" y="1125360"/>
            <a:ext cx="1828800" cy="533520"/>
            <a:chOff x="2556000" y="1125360"/>
            <a:chExt cx="1828800" cy="533520"/>
          </a:xfrm>
        </p:grpSpPr>
        <p:sp>
          <p:nvSpPr>
            <p:cNvPr id="207" name=""/>
            <p:cNvSpPr/>
            <p:nvPr/>
          </p:nvSpPr>
          <p:spPr>
            <a:xfrm>
              <a:off x="2556000" y="1125360"/>
              <a:ext cx="1828800" cy="5335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01800" y="1233360"/>
              <a:ext cx="1576800" cy="2764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La literatura ép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648320" y="1111320"/>
            <a:ext cx="2133360" cy="533160"/>
            <a:chOff x="4648320" y="1111320"/>
            <a:chExt cx="2133360" cy="533160"/>
          </a:xfrm>
        </p:grpSpPr>
        <p:sp>
          <p:nvSpPr>
            <p:cNvPr id="210" name=""/>
            <p:cNvSpPr/>
            <p:nvPr/>
          </p:nvSpPr>
          <p:spPr>
            <a:xfrm>
              <a:off x="4648320" y="1111320"/>
              <a:ext cx="2133360" cy="53316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8520" y="1219320"/>
              <a:ext cx="1864800" cy="2764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La literatura didáct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020000" y="1125360"/>
            <a:ext cx="1828800" cy="533520"/>
            <a:chOff x="7020000" y="1125360"/>
            <a:chExt cx="1828800" cy="533520"/>
          </a:xfrm>
        </p:grpSpPr>
        <p:sp>
          <p:nvSpPr>
            <p:cNvPr id="213" name=""/>
            <p:cNvSpPr/>
            <p:nvPr/>
          </p:nvSpPr>
          <p:spPr>
            <a:xfrm>
              <a:off x="7020000" y="1125360"/>
              <a:ext cx="1828800" cy="533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66520" y="1233360"/>
              <a:ext cx="1537200" cy="2764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La prosa rom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59960" y="1828800"/>
            <a:ext cx="102816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Las jarch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9040" y="4495680"/>
            <a:ext cx="1412280" cy="45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La lírica galaico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portugue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8240" y="1828800"/>
            <a:ext cx="156924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Mester de jugla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27960" y="1828800"/>
            <a:ext cx="156924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Mester de clerec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86760" y="2473200"/>
            <a:ext cx="147312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Oficio de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jug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49280" y="3124080"/>
            <a:ext cx="1570680" cy="824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e encargaba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ifundir los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l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épico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de villa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vil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164448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21520" y="210492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ign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30320" y="4437000"/>
            <a:ext cx="146988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antares de g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24960" y="4923000"/>
            <a:ext cx="116532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Carácter hero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97960" y="5300640"/>
            <a:ext cx="78120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nóni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32520" y="5608800"/>
            <a:ext cx="125208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Tiradas de vers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irregu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34400" y="401328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410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5791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644480"/>
            <a:ext cx="0" cy="300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86320" y="2260440"/>
            <a:ext cx="1506600" cy="70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Breves cancioncil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incluidas en 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Moaxajas por hebre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Y musulma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95280" y="2133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72640" y="3068640"/>
            <a:ext cx="126288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Tema amoro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0000" y="3641760"/>
            <a:ext cx="1392480" cy="70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La mujer se lam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por la ausencia d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mado, a su mad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o herman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2004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981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5060880"/>
            <a:ext cx="137160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Lengua gallego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portuguesa, entre los S XII y X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4984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88120" y="5746680"/>
            <a:ext cx="151884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antigas de am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5899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2000" y="6095880"/>
            <a:ext cx="2131560" cy="550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Temática igual que 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jarchas, pero se da import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 la Naturaleza, personificándo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84480" y="2459160"/>
            <a:ext cx="145296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Oficio de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cléri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40760" y="210816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ign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05680" y="3124080"/>
            <a:ext cx="129312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scribían en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onaste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32080" y="3809880"/>
            <a:ext cx="176256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asgos caracterís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75360" y="4216320"/>
            <a:ext cx="181440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usencia de asuntos épi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50520" y="4572000"/>
            <a:ext cx="1282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Finalidad didác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45840" y="4952880"/>
            <a:ext cx="10522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Lenguaje cla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49080" y="5300640"/>
            <a:ext cx="174276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Empleo de la cuaderna v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2920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623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816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4343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2920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5105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5486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64448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164448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145640" y="1574640"/>
            <a:ext cx="19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mpulsor de este gé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84800" y="2276640"/>
            <a:ext cx="180972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scuela de trad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 Tol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62720" y="3048120"/>
            <a:ext cx="1538640" cy="4287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Musulmanes, judío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y cristian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63200" y="277812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eúne a sab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02" idx="2"/>
            <a:endCxn id="204" idx="0"/>
          </p:cNvCxnSpPr>
          <p:nvPr/>
        </p:nvCxnSpPr>
        <p:spPr>
          <a:xfrm rot="5400000">
            <a:off x="2955240" y="-807120"/>
            <a:ext cx="430920" cy="3434760"/>
          </a:xfrm>
          <a:prstGeom prst="bentConnector3">
            <a:avLst>
              <a:gd name="adj1" fmla="val 497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02" idx="2"/>
            <a:endCxn id="207" idx="0"/>
          </p:cNvCxnSpPr>
          <p:nvPr/>
        </p:nvCxnSpPr>
        <p:spPr>
          <a:xfrm rot="5400000">
            <a:off x="3963600" y="201240"/>
            <a:ext cx="430920" cy="1418400"/>
          </a:xfrm>
          <a:prstGeom prst="bentConnector3">
            <a:avLst>
              <a:gd name="adj1" fmla="val 497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02" idx="2"/>
            <a:endCxn id="210" idx="0"/>
          </p:cNvCxnSpPr>
          <p:nvPr/>
        </p:nvCxnSpPr>
        <p:spPr>
          <a:xfrm flipH="1" rot="16200000">
            <a:off x="5092560" y="489600"/>
            <a:ext cx="416880" cy="82764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02" idx="2"/>
            <a:endCxn id="213" idx="0"/>
          </p:cNvCxnSpPr>
          <p:nvPr/>
        </p:nvCxnSpPr>
        <p:spPr>
          <a:xfrm flipH="1" rot="16200000">
            <a:off x="6195960" y="-613440"/>
            <a:ext cx="430920" cy="3047040"/>
          </a:xfrm>
          <a:prstGeom prst="bentConnector3">
            <a:avLst>
              <a:gd name="adj1" fmla="val 4974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5316120" y="5715000"/>
            <a:ext cx="1495800" cy="50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Estrofas de 4 vers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alejandrinos (1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y rima consonante AA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60" idx="1"/>
            <a:endCxn id="280" idx="1"/>
          </p:cNvCxnSpPr>
          <p:nvPr/>
        </p:nvCxnSpPr>
        <p:spPr>
          <a:xfrm flipH="1" flipV="1" rot="10800000">
            <a:off x="5075640" y="5427360"/>
            <a:ext cx="181800" cy="543600"/>
          </a:xfrm>
          <a:prstGeom prst="bentConnector3">
            <a:avLst>
              <a:gd name="adj1" fmla="val -1261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7963560" y="20318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e sirve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924680" y="2133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61280" y="3676680"/>
            <a:ext cx="1552320" cy="76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Escribían y traducí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obras. Elevaron 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Castellano a lengu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intelectu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32320" y="4668840"/>
            <a:ext cx="184500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D. Juan Manuel. S. X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03960" y="5092560"/>
            <a:ext cx="1773360" cy="76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Con </a:t>
            </a:r>
            <a:r>
              <a:rPr b="0" i="1" lang="es-ES_tradnl" sz="1100" spc="-1" strike="noStrike">
                <a:solidFill>
                  <a:srgbClr val="000000"/>
                </a:solidFill>
                <a:latin typeface="Verdana"/>
              </a:rPr>
              <a:t>El Conde de Lucan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dotó al Castellano d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carácter literario que 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tuvo hasta ento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7732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91000" y="1828800"/>
            <a:ext cx="152964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Alfonso X el Sa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 rot="5400000">
            <a:off x="827640" y="-1215000"/>
            <a:ext cx="74883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914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96000" y="303120"/>
            <a:ext cx="4700880" cy="581400"/>
          </a:xfrm>
          <a:prstGeom prst="rect">
            <a:avLst/>
          </a:prstGeom>
          <a:solidFill>
            <a:srgbClr val="abf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TER DE CLEREC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51:03Z</dcterms:created>
  <dc:creator>ISABEL</dc:creator>
  <dc:description/>
  <dc:language>en-US</dc:language>
  <cp:lastModifiedBy>ISABEL</cp:lastModifiedBy>
  <dcterms:modified xsi:type="dcterms:W3CDTF">2008-01-21T23:07:53Z</dcterms:modified>
  <cp:revision>4</cp:revision>
  <dc:subject/>
  <dc:title>Diapositiva 1</dc:title>
</cp:coreProperties>
</file>